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40C4-1F8C-4A1D-936C-D9475DF72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CA27-23AA-498D-A53A-12ABDF0F8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3940200" y="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9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10B-2059-45B1-88F8-4B134CB7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A96-3420-475C-9CCB-2162C2CF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C53-B0C4-433F-A8D5-6448F5DA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00F-6E5A-44E3-A440-B0C47BDA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7FDD7-A757-4AB4-9E7F-9603BCF2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9AB2E-B120-472B-88CE-5ED470A6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D7E43-58A5-4F05-A545-1F84F078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93E6-9A60-4658-9EB7-93D2C89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1C91-1E5D-47C4-9677-7EE5C8D2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3086B-C762-4A84-9EA1-47D7C213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61F7D-0A92-42B8-A0C5-CDDB83D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21D-1AE2-4E37-8F39-F3614F4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ED31C-51C7-4E17-8C58-4CCD122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B43E3-922C-4EA8-8B71-130BBEF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0D0FE-C530-47C3-A6AF-CCBE190A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0C028-AC0C-4365-94C4-2EA0058C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21ED6-41EC-44DE-B511-8C8DB85F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4AE-5B24-45A7-A3CB-C6868D2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FB4-AD06-4455-85BF-9F3410E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C30-50F6-4F60-B37A-01ED8A8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EB3-BF32-496C-A991-B6223D85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B68-B0C3-48CF-ABCC-F621513B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7D5-92F5-485D-AB2E-9E90E7E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355-5CE7-4A3C-95C2-74E98BB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oprietary to M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Dec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5A06-33BC-4848-8872-C2E9CB92E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1009800" y="380880"/>
            <a:ext cx="42987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5357520" y="0"/>
            <a:ext cx="2900160" cy="705600"/>
            <a:chOff x="5357520" y="0"/>
            <a:chExt cx="2900160" cy="705600"/>
          </a:xfrm>
        </p:grpSpPr>
        <p:sp>
          <p:nvSpPr>
            <p:cNvPr id="43" name="Rectangle 6"/>
            <p:cNvSpPr/>
            <p:nvPr/>
          </p:nvSpPr>
          <p:spPr>
            <a:xfrm>
              <a:off x="6978960" y="169920"/>
              <a:ext cx="127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LECTRO MAGNET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APPLICATIONS, IN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5843880" y="0"/>
              <a:ext cx="124560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2680" rIns="1126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62240"/>
                  <a:tab algn="l" pos="2724120"/>
                  <a:tab algn="l" pos="4086360"/>
                  <a:tab algn="l" pos="5448240"/>
                  <a:tab algn="l" pos="6810480"/>
                  <a:tab algn="l" pos="8172360"/>
                  <a:tab algn="l" pos="9534600"/>
                  <a:tab algn="l" pos="10896480"/>
                </a:tabLst>
              </a:pPr>
              <a:r>
                <a:rPr b="0" i="1" lang="en-US" sz="3900" spc="-1" strike="noStrike">
                  <a:solidFill>
                    <a:srgbClr val="000000"/>
                  </a:solidFill>
                  <a:latin typeface="Times New Roman"/>
                </a:rPr>
                <a:t>EMA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5357520" y="6480"/>
              <a:ext cx="4896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2680" rIns="1126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62240"/>
                  <a:tab algn="l" pos="2724120"/>
                  <a:tab algn="l" pos="4086360"/>
                  <a:tab algn="l" pos="5448240"/>
                  <a:tab algn="l" pos="6810480"/>
                  <a:tab algn="l" pos="8172360"/>
                  <a:tab algn="l" pos="9534600"/>
                  <a:tab algn="l" pos="108964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5515920" y="6480"/>
              <a:ext cx="5796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2680" rIns="1126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62240"/>
                  <a:tab algn="l" pos="2724120"/>
                  <a:tab algn="l" pos="4086360"/>
                  <a:tab algn="l" pos="5448240"/>
                  <a:tab algn="l" pos="6810480"/>
                  <a:tab algn="l" pos="8172360"/>
                  <a:tab algn="l" pos="9534600"/>
                  <a:tab algn="l" pos="10896480"/>
                </a:tabLst>
              </a:pPr>
              <a:r>
                <a:rPr b="0" lang="en-US" sz="34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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Line 5"/>
          <p:cNvSpPr/>
          <p:nvPr/>
        </p:nvSpPr>
        <p:spPr>
          <a:xfrm>
            <a:off x="971640" y="6400800"/>
            <a:ext cx="72388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BAA7-5190-41B9-AD00-F407C5595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5"/>
          </p:nvPr>
        </p:nvSpPr>
        <p:spPr>
          <a:xfrm>
            <a:off x="37339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0c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Proprietary to M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22824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Dec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I from a Slotted Box -Benchmark Simulation Using EMA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666520" y="358092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/23/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4"/>
          <p:cNvSpPr/>
          <p:nvPr/>
        </p:nvSpPr>
        <p:spPr>
          <a:xfrm>
            <a:off x="609480" y="1476360"/>
            <a:ext cx="82296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romagnetic interference (EMI) from a slot in a rectangular box has been explored using a FDTD technique and compared to measurements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DTD simulation software, EMA3D,  has been used to analyze a similar problem and the results are presented her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ulation files, results and MATLAB plotting scripts have been provided to assure the validity of the EMA3D model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2A56-F232-4E6B-94A3-DC6AD5E3D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A3D Model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4"/>
          <p:cNvSpPr/>
          <p:nvPr/>
        </p:nvSpPr>
        <p:spPr>
          <a:xfrm>
            <a:off x="343080" y="1152360"/>
            <a:ext cx="8686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h size: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 cm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.5 cm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hin wire with termination impedances of R1 = 50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R2 = 47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used to model the source line (green li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hin gap formalism was used to model the slot (blue line) with a width of 1 m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surfaces (Lx = 22 cm, Ly = 14 cm, Lz = 30 cm) were modeled as perfect electrical conductors (PE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aussian pulse voltage source with amplitude 1 mV was used at the R1 end of the thin w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7233-6136-4173-8BD1-94D43CF20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0"/>
          <p:cNvGrpSpPr/>
          <p:nvPr/>
        </p:nvGrpSpPr>
        <p:grpSpPr>
          <a:xfrm>
            <a:off x="3429000" y="4343400"/>
            <a:ext cx="3581280" cy="1936800"/>
            <a:chOff x="3429000" y="4343400"/>
            <a:chExt cx="3581280" cy="1936800"/>
          </a:xfrm>
        </p:grpSpPr>
        <p:pic>
          <p:nvPicPr>
            <p:cNvPr id="105" name="Picture 3" descr=""/>
            <p:cNvPicPr/>
            <p:nvPr/>
          </p:nvPicPr>
          <p:blipFill>
            <a:blip r:embed="rId1"/>
            <a:stretch/>
          </p:blipFill>
          <p:spPr>
            <a:xfrm>
              <a:off x="3429000" y="4343400"/>
              <a:ext cx="358128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4"/>
            <p:cNvSpPr/>
            <p:nvPr/>
          </p:nvSpPr>
          <p:spPr>
            <a:xfrm>
              <a:off x="5908680" y="4525560"/>
              <a:ext cx="55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, 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Straight Arrow Connector 6"/>
            <p:cNvCxnSpPr/>
            <p:nvPr/>
          </p:nvCxnSpPr>
          <p:spPr>
            <a:xfrm flipH="1" flipV="1">
              <a:off x="5632920" y="4619880"/>
              <a:ext cx="344880" cy="6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08" name="TextBox 48"/>
            <p:cNvSpPr/>
            <p:nvPr/>
          </p:nvSpPr>
          <p:spPr>
            <a:xfrm>
              <a:off x="5908680" y="5588640"/>
              <a:ext cx="5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Straight Arrow Connector 49"/>
            <p:cNvCxnSpPr/>
            <p:nvPr/>
          </p:nvCxnSpPr>
          <p:spPr>
            <a:xfrm flipH="1" flipV="1">
              <a:off x="5632920" y="5682600"/>
              <a:ext cx="344880" cy="6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A3D Simulation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4"/>
          <p:cNvSpPr/>
          <p:nvPr/>
        </p:nvSpPr>
        <p:spPr>
          <a:xfrm>
            <a:off x="228600" y="1371600"/>
            <a:ext cx="8763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r-field electric field approximation was used to determine the electric field at a 3 m distance from the slot in the benchmark [1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3D has the ability to obtain far-field approximations similar to the ones performed in the pa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problem is relatively small for the computing resources available, the actual electric field was computed at the 3 m dist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the y component of the electric field was consi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CD91-C8AD-4CA4-9D76-FF1EEF89C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6"/>
          <p:cNvGrpSpPr/>
          <p:nvPr/>
        </p:nvGrpSpPr>
        <p:grpSpPr>
          <a:xfrm>
            <a:off x="3402000" y="3941640"/>
            <a:ext cx="5491080" cy="2360880"/>
            <a:chOff x="3402000" y="3941640"/>
            <a:chExt cx="5491080" cy="2360880"/>
          </a:xfrm>
        </p:grpSpPr>
        <p:grpSp>
          <p:nvGrpSpPr>
            <p:cNvPr id="114" name="Group 21"/>
            <p:cNvGrpSpPr/>
            <p:nvPr/>
          </p:nvGrpSpPr>
          <p:grpSpPr>
            <a:xfrm>
              <a:off x="3533760" y="3941640"/>
              <a:ext cx="5359320" cy="2360880"/>
              <a:chOff x="3533760" y="3941640"/>
              <a:chExt cx="5359320" cy="2360880"/>
            </a:xfrm>
          </p:grpSpPr>
          <p:pic>
            <p:nvPicPr>
              <p:cNvPr id="11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3760" y="3941640"/>
                <a:ext cx="4352760" cy="236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Box 11"/>
              <p:cNvSpPr/>
              <p:nvPr/>
            </p:nvSpPr>
            <p:spPr>
              <a:xfrm>
                <a:off x="4556880" y="4125960"/>
                <a:ext cx="55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7" name="Straight Arrow Connector 12"/>
              <p:cNvCxnSpPr/>
              <p:nvPr/>
            </p:nvCxnSpPr>
            <p:spPr>
              <a:xfrm flipH="1">
                <a:off x="4358520" y="4404600"/>
                <a:ext cx="289080" cy="892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118" name="TextBox 13"/>
              <p:cNvSpPr/>
              <p:nvPr/>
            </p:nvSpPr>
            <p:spPr>
              <a:xfrm>
                <a:off x="7275240" y="4165920"/>
                <a:ext cx="1617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y Measurement lo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" name="Straight Arrow Connector 14"/>
              <p:cNvCxnSpPr/>
              <p:nvPr/>
            </p:nvCxnSpPr>
            <p:spPr>
              <a:xfrm flipH="1">
                <a:off x="7543080" y="5029200"/>
                <a:ext cx="457920" cy="6868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120" name="Straight Arrow Connector 20"/>
              <p:cNvCxnSpPr/>
              <p:nvPr/>
            </p:nvCxnSpPr>
            <p:spPr>
              <a:xfrm flipH="1" flipV="1">
                <a:off x="4316760" y="4664160"/>
                <a:ext cx="940680" cy="3650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121" name="TextBox 23"/>
              <p:cNvSpPr/>
              <p:nvPr/>
            </p:nvSpPr>
            <p:spPr>
              <a:xfrm>
                <a:off x="5220720" y="4871880"/>
                <a:ext cx="129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m sepa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" name="Straight Arrow Connector 24"/>
              <p:cNvCxnSpPr/>
              <p:nvPr/>
            </p:nvCxnSpPr>
            <p:spPr>
              <a:xfrm>
                <a:off x="6306480" y="5410440"/>
                <a:ext cx="1199160" cy="3816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  <p:pic>
          <p:nvPicPr>
            <p:cNvPr id="123" name="Picture 25" descr=""/>
            <p:cNvPicPr/>
            <p:nvPr/>
          </p:nvPicPr>
          <p:blipFill>
            <a:blip r:embed="rId2"/>
            <a:stretch/>
          </p:blipFill>
          <p:spPr>
            <a:xfrm>
              <a:off x="3402000" y="5339160"/>
              <a:ext cx="79020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0484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3D Results Vs. Results in Benchmark [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E672-5C4A-4E6E-B433-E081E47CE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724280" y="1347840"/>
            <a:ext cx="3189240" cy="2543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4651200" y="3976560"/>
            <a:ext cx="3273480" cy="233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1020600" y="3889440"/>
            <a:ext cx="3399120" cy="24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/>
          <a:stretch/>
        </p:blipFill>
        <p:spPr>
          <a:xfrm>
            <a:off x="965160" y="1293840"/>
            <a:ext cx="345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Compari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ontent Placeholder 4"/>
          <p:cNvSpPr/>
          <p:nvPr/>
        </p:nvSpPr>
        <p:spPr>
          <a:xfrm>
            <a:off x="228600" y="137160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ots on the previous slide demonstrate that the EMA3D simulation results compare well to the benchmark results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cavity-mode and slot generated resonance produced in the benchmark problem is captured in the EMA3D results for delivered power and electric field at 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ome small differences in some of the peak amplitudes and resona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son for the small differences could be determined with more time to analyz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is analysis was intended to be performed quickly and the result plots demonstrate EMA3D’s ability to accurately produce results using first cut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DF44-2BB4-40DA-8B5F-CBCB7E327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4"/>
          <p:cNvSpPr/>
          <p:nvPr/>
        </p:nvSpPr>
        <p:spPr>
          <a:xfrm>
            <a:off x="228600" y="1371600"/>
            <a:ext cx="8686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Li, J. Nuebel, J. L. Drewniak, R. E. DuBroff, T. H. Hubing, T. P. Van Doren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 from Cavity Modes of Shielding Enclosures – FDTD Modeling and Measurements,”  IEEE Transactions on Electromagnetic Compatibility, Vol. 42, No. 1, pp. 29 – 38, Feb.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8AA-DA86-4A8B-A1FA-642AD8705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1:54:31Z</dcterms:created>
  <dc:creator>cody weber</dc:creator>
  <dc:description/>
  <dc:language>en-US</dc:language>
  <cp:lastModifiedBy>cody weber</cp:lastModifiedBy>
  <cp:lastPrinted>2014-05-23T22:48:09Z</cp:lastPrinted>
  <dcterms:modified xsi:type="dcterms:W3CDTF">2014-05-23T23:08:46Z</dcterms:modified>
  <cp:revision>489</cp:revision>
  <dc:subject/>
  <dc:title>Slide 1</dc:title>
</cp:coreProperties>
</file>